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2C6-5444-40C2-897F-DECF440F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055F-A3AC-4CC0-918D-E687928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431-1E46-421D-A125-42C787D4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0C92-5628-4197-8E0D-A2355633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6CF-25DD-4348-A9AF-2068511D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46C-F928-4199-87FE-A67FB501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0CB-A6D3-4AC3-A3D9-C1D0342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98F5-4B6F-4B7A-8E8D-EA714850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3C72-723F-4EDD-8465-5A1C3E8D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037-075B-4812-9E7E-4A199565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FDD5-BD10-4B69-A0A0-EF89BB7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B0D-76BF-449D-A095-D7AC38CF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BD1E-4D72-455B-88A9-5F2DC73EC7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image" Target="../media/image9.pct"/><Relationship Id="rId5" Type="http://schemas.openxmlformats.org/officeDocument/2006/relationships/image" Target="../media/image10.pct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image" Target="../media/image19.pct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Edwardian Script ITC"/>
              </a:rPr>
              <a:t>The Romantic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Edwardian Script ITC"/>
              </a:rPr>
              <a:t>Time Perio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d by Renee Sak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dwardian Script ITC"/>
              </a:rPr>
              <a:t>The Romantic Er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1850 - 1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Emo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pple Chance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Chancery"/>
              </a:rPr>
              <a:t>Change from balance /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4102200"/>
            <a:ext cx="2133720" cy="275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1844640" cy="228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705720" y="1523880"/>
            <a:ext cx="2057400" cy="256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248520" y="4051440"/>
            <a:ext cx="2314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Romantic Compo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etho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g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chmanin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kofie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chaikovsk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z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238880" y="1828800"/>
            <a:ext cx="1320840" cy="1422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1600200"/>
            <a:ext cx="1168200" cy="158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422360" cy="1473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952880" y="3581280"/>
            <a:ext cx="1168560" cy="1625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05720" y="3733920"/>
            <a:ext cx="1269720" cy="190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505320" y="4876920"/>
            <a:ext cx="1422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What made it differe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gger the b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r Orchest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vot Ch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o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Common The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 in the Super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085840" cy="245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3175200" cy="238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666880" y="3886200"/>
            <a:ext cx="3429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WOMEN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ra Schu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19 - 18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1538280" cy="1904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3124080"/>
            <a:ext cx="1703160" cy="19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10320" y="1219320"/>
            <a:ext cx="15429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00400" y="3657600"/>
            <a:ext cx="26557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ple Chancery"/>
              </a:rPr>
              <a:t>Making a 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ymaking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1638360" cy="1650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86200" y="3200400"/>
            <a:ext cx="1612800" cy="1587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19047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5:05:53Z</dcterms:created>
  <dc:creator>Middle School</dc:creator>
  <dc:description/>
  <dc:language>en-US</dc:language>
  <cp:lastModifiedBy>Middle School</cp:lastModifiedBy>
  <dcterms:modified xsi:type="dcterms:W3CDTF">2007-07-25T15:33:50Z</dcterms:modified>
  <cp:revision>3</cp:revision>
  <dc:subject/>
  <dc:title>The Romantic  Time Period</dc:title>
</cp:coreProperties>
</file>